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ACF-8DFB-4D5D-8768-E2742437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C1E-6317-45E9-932A-BD499183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D8E-F1D0-4F19-91DB-8817695C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200-05BC-4531-B98A-82FD8CF3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EDC5-756B-43A5-BCFD-77B1FAA6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F42B-4898-41F3-8F76-7DC8E40C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F410-8134-4CCB-9743-BF7EDAFE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E615-C83A-4BC4-9079-69B3FB44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85D7-D285-41AF-836A-85E15C65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3118-7A40-4001-AB65-01B50059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60AD-0601-4116-A096-A9508A4C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0E3-D0F5-43BA-A35F-FD2E1D08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8F5A-E629-477D-A827-13079AE6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4FA4-FA29-4BF8-AD1E-C26342B4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1536-C489-4749-A928-9EB4D447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5CF8-EDA1-4ECE-804F-443D3766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7BD6-D432-47FA-B082-782BD3EA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4D315-B236-4389-A978-3FCDB66F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C36E1-9CCD-4666-B592-39D00D1F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1B221-0175-45C4-8AED-24D420D4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82B2D-9BB9-40A8-95D2-EB12E3FD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DB1AD-4FFF-4B64-907A-1A0618FB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33B-D012-47A8-A6A7-024906D9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6D5B9-B086-414F-B26F-03310227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68A0F-7DB1-4A12-A9EE-FD57BF8B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D7835-F460-4481-91FA-9AF5E009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AB67B-4D89-4659-882A-B54EDB08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4E6BB-F534-48AE-9787-98429EE1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14CFF-BB3D-4D03-969E-5759337A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27F5A-5C4E-49E4-BFD3-38E988A6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9B5FF-273B-4E55-B3B1-566298F3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12F59-B8F9-478D-910A-AB843AE3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34690-8516-43BD-B75F-08273194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4C4-099F-4E20-8B4F-786C49C2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91024-DA14-46A5-AD0F-34CE19EA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EA5D0-0355-439A-99AC-FE3609B6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1111A-96DB-47C4-9FCF-AB80F46E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EABBD-0DA3-4003-AE45-10CDD88E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72DF3-D512-46FA-8ED4-33ED685F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765AB-68CB-4184-ADDF-CFAF6D4C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DD880-633A-4089-942B-7950B8CD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2D513-00A3-4599-8F25-686DF93A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FD078-172E-4572-A247-2733A399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6FC-B333-4086-AC94-C5331DC3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E48-57D1-469D-BD99-AD39467A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426D-452E-4CCD-9096-016CC08C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36F-5890-4EC7-9F5A-FD41366A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0D9-97F8-4C50-A14F-1CEA9EFF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5FA96-B7AF-4A00-B0E8-AB29E7DC95A7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19C9B-868A-4403-99F7-7C27E01CDFF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2F94A-B32C-4539-8DB1-CC31A491C723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45D27-3A3F-4BDD-BAD6-3A9BB073A02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35CD1-7D9E-4230-982A-3621FB547929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6CBF2-BF44-4986-933A-50E7FF8874C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5B3F75-0653-471F-93CE-021BCCD5AFA2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7F7B5-5AE8-43C9-8821-F659DB4D647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xacxShp3LY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Yov6aCqt8w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uite101.com/content/why-overfishing-matters-a146870#ixzz1Da6WCvPq" TargetMode="External"/><Relationship Id="rId2" Type="http://schemas.openxmlformats.org/officeDocument/2006/relationships/hyperlink" Target="http://www.suite101.com/content/why-overfishing-matters-a146870#ixzz1Da6WCvPq" TargetMode="External"/><Relationship Id="rId3" Type="http://schemas.openxmlformats.org/officeDocument/2006/relationships/hyperlink" Target="http://www.suite101.com/content/why-overfishing-matters-a146870#ixzz1Da6WCvPq" TargetMode="External"/><Relationship Id="rId4" Type="http://schemas.openxmlformats.org/officeDocument/2006/relationships/hyperlink" Target="http://www.grinningplanet.com/2005/06-07/overfishing-article.htm" TargetMode="External"/><Relationship Id="rId5" Type="http://schemas.openxmlformats.org/officeDocument/2006/relationships/hyperlink" Target="http://www.grinningplanet.com/2005/06-07/overfishing-article.htm" TargetMode="External"/><Relationship Id="rId6" Type="http://schemas.openxmlformats.org/officeDocument/2006/relationships/hyperlink" Target="http://www.elcamino.edu/faculty/tnoyes/Readings/13CR.pdf" TargetMode="External"/><Relationship Id="rId7" Type="http://schemas.openxmlformats.org/officeDocument/2006/relationships/hyperlink" Target="http://www.elcamino.edu/faculty/tnoyes/Readings/13CR.pdf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835200"/>
            <a:ext cx="785808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http://www.coral.org/files/images/800px-Nwhi_-_French_Frigate_Shoals_reef_-_many_fish.jpg"/>
          <p:cNvPicPr/>
          <p:nvPr/>
        </p:nvPicPr>
        <p:blipFill>
          <a:blip r:embed="rId2"/>
          <a:stretch/>
        </p:blipFill>
        <p:spPr>
          <a:xfrm>
            <a:off x="1447920" y="2438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Overfishing- the consequenc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429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youtube.com/watch?v=VxacxShp3L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1752480" y="2558880"/>
            <a:ext cx="5715000" cy="4299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olutions for overfish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3619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70000" indent="-27000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ea typeface="ＭＳ Ｐゴシック"/>
                <a:hlinkClick r:id="rId1"/>
              </a:rPr>
              <a:t>http://www.youtube.com/watch?v=0Yov6aCqt8w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egulation is needed to prevent or limit bottom trawling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Limiting the number of days a haul can set off per month could also be extremely helpful in allowing fish stocks to recover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et educated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270000" indent="-2700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earn about the kind of fish you purcha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270000" indent="-2700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pread the wor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270000" indent="-270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270000" indent="-2700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l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1"/>
              </a:rPr>
              <a:t>Why Overfishing Matters-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2"/>
              </a:rPr>
              <a:t>Why Overfishing Matters: How Lost Ocean Life Affects the World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3"/>
              </a:rPr>
              <a:t>http://www.suite101.com/content/why-overfishing-matters-a146870#ixzz1Da6WCvPq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4"/>
              </a:rPr>
              <a:t>Overfishing-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5"/>
              </a:rPr>
              <a:t> http://www.grinningplanet.com/2005/06-07/overfishing-article.ht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6"/>
              </a:rPr>
              <a:t>Overfishing-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7"/>
              </a:rPr>
              <a:t> http://www.elcamino.edu/faculty/tnoyes/Readings/13CR.pdf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lobal warming issues &amp; Human impact on the ocean-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http://www.divesitedirectory.com/global_warming_coral_effects.htm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ver fishing-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http://www.ypte.org.uk/environmental/over-fishing/29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Over fishing-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http://www.scribd.com/doc/6592367/Over-Fishing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at is overfishing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1333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verfishing is taking so many fish from the ocean that there are not enough left to reproduce and replenish the populatio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Picture 5" descr="http://assets.panda.org/img/overfish_img1_col2b_233392.jpg"/>
          <p:cNvPicPr/>
          <p:nvPr/>
        </p:nvPicPr>
        <p:blipFill>
          <a:blip r:embed="rId1"/>
          <a:stretch/>
        </p:blipFill>
        <p:spPr>
          <a:xfrm>
            <a:off x="457200" y="3556080"/>
            <a:ext cx="4572000" cy="2886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t1.gstatic.com/images?q=tbn:ANd9GcT41H3o2HBfmnxYaNQwsII2W2yBkKQ2TWtJFb7z0R0O1D35xBRMhQ&amp;t=1"/>
          <p:cNvPicPr/>
          <p:nvPr/>
        </p:nvPicPr>
        <p:blipFill>
          <a:blip r:embed="rId2"/>
          <a:stretch/>
        </p:blipFill>
        <p:spPr>
          <a:xfrm>
            <a:off x="5524560" y="3581280"/>
            <a:ext cx="3162240" cy="226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Destructive fishing techniqu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Huge fishing fleet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(when combined are two times larger than our earth can sustain) scoop up huge quantities of species at o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se technology and even airplanes to find the fis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Bycatc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the capture of marine animals that are unwanted and are thrown back after capture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ormally, most of the discards can be assumed not to surviv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auses of Overfish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numbers of fish species have been reduced by the use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high-tech fishing equipment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ch a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Factory ships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Radar technology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ongline fish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ottom trawling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ole and line metho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Use of pois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last fishing/ use of explosiv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http://www.mareud.com/images_unknown/Horsun-01.jpg"/>
          <p:cNvPicPr/>
          <p:nvPr/>
        </p:nvPicPr>
        <p:blipFill>
          <a:blip r:embed="rId1"/>
          <a:stretch/>
        </p:blipFill>
        <p:spPr>
          <a:xfrm>
            <a:off x="144360" y="304920"/>
            <a:ext cx="4046760" cy="26924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914400" y="29973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ory 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http://x-journals.com/wp-content/uploads/2009/05/new-antarctic-seabed-sonar.jpg"/>
          <p:cNvPicPr/>
          <p:nvPr/>
        </p:nvPicPr>
        <p:blipFill>
          <a:blip r:embed="rId2"/>
          <a:stretch/>
        </p:blipFill>
        <p:spPr>
          <a:xfrm>
            <a:off x="4724280" y="304920"/>
            <a:ext cx="3810240" cy="30607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9"/>
          <p:cNvSpPr/>
          <p:nvPr/>
        </p:nvSpPr>
        <p:spPr>
          <a:xfrm>
            <a:off x="5486400" y="3365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ar 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10" descr="http://www.sustainablesushi.net/wp-content/uploads/2010/04/longline-fishing1.jpg"/>
          <p:cNvPicPr/>
          <p:nvPr/>
        </p:nvPicPr>
        <p:blipFill>
          <a:blip r:embed="rId3"/>
          <a:stretch/>
        </p:blipFill>
        <p:spPr>
          <a:xfrm>
            <a:off x="144360" y="3365640"/>
            <a:ext cx="4046760" cy="3078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1"/>
          <p:cNvSpPr/>
          <p:nvPr/>
        </p:nvSpPr>
        <p:spPr>
          <a:xfrm>
            <a:off x="1066680" y="64436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line f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12" descr="http://t2.gstatic.com/images?q=tbn:ANd9GcRjH64G0nQMoSFQH8gjwiXJAdDjs40mxCQO-coME0PhBX0Ii6Yf6A&amp;t=1"/>
          <p:cNvPicPr/>
          <p:nvPr/>
        </p:nvPicPr>
        <p:blipFill>
          <a:blip r:embed="rId4"/>
          <a:stretch/>
        </p:blipFill>
        <p:spPr>
          <a:xfrm>
            <a:off x="4419720" y="3735360"/>
            <a:ext cx="4467240" cy="2509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3"/>
          <p:cNvSpPr/>
          <p:nvPr/>
        </p:nvSpPr>
        <p:spPr>
          <a:xfrm>
            <a:off x="5715000" y="6259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tom traw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greenpeace.org/new-zealand/ReSizes/OriginalWatermarked/Global/new-zealand/P3/photos/oceans/2010/GP01PJV_layout.jpg"/>
          <p:cNvPicPr/>
          <p:nvPr/>
        </p:nvPicPr>
        <p:blipFill>
          <a:blip r:embed="rId1"/>
          <a:stretch/>
        </p:blipFill>
        <p:spPr>
          <a:xfrm>
            <a:off x="304920" y="152280"/>
            <a:ext cx="4740120" cy="28288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"/>
          <p:cNvSpPr/>
          <p:nvPr/>
        </p:nvSpPr>
        <p:spPr>
          <a:xfrm>
            <a:off x="1295280" y="302724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 and line f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5248440" y="380880"/>
            <a:ext cx="3895560" cy="2934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5"/>
          <p:cNvSpPr/>
          <p:nvPr/>
        </p:nvSpPr>
        <p:spPr>
          <a:xfrm>
            <a:off x="6019920" y="33148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3"/>
          <a:stretch/>
        </p:blipFill>
        <p:spPr>
          <a:xfrm>
            <a:off x="1295280" y="3397320"/>
            <a:ext cx="5045040" cy="31287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7"/>
          <p:cNvSpPr/>
          <p:nvPr/>
        </p:nvSpPr>
        <p:spPr>
          <a:xfrm>
            <a:off x="3048120" y="6477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st f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y is overfishing a problem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724280" y="3733920"/>
            <a:ext cx="4191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52% of fish stocks are fully exploi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20% are moderately exploi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17% are overexploi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7% are deple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1% is recovering from deple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246240" y="1498680"/>
            <a:ext cx="563868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eans are at risk of collap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ecies exti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isk of losing a valuable food sour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ss of income for fisherm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http://www.accu-techrchardware.com/sitebuilder/images/ocean_water_background_3-713x363.jpg"/>
          <p:cNvPicPr/>
          <p:nvPr/>
        </p:nvPicPr>
        <p:blipFill>
          <a:blip r:embed="rId1"/>
          <a:stretch/>
        </p:blipFill>
        <p:spPr>
          <a:xfrm>
            <a:off x="27000" y="4191120"/>
            <a:ext cx="4579920" cy="2330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http://www.hasonraja.co.uk/images/fish_food_photo_03.jpg"/>
          <p:cNvPicPr/>
          <p:nvPr/>
        </p:nvPicPr>
        <p:blipFill>
          <a:blip r:embed="rId2"/>
          <a:stretch/>
        </p:blipFill>
        <p:spPr>
          <a:xfrm>
            <a:off x="5854680" y="1447920"/>
            <a:ext cx="2832120" cy="217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ndangered fisheri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ome of the species most threatened by overfishing are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tlantic Halibu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onkfis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wordfis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ropical shrim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lue Fin Tun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ther animals not usually associated with the seafood industry are also affected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urtl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olphin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Whal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ll shark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ffects of overfish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288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lnSpc>
                <a:spcPct val="6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Overfishing disrupts the natural balance ecosystems attain over thousands of years of evolution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lnSpc>
                <a:spcPct val="6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Entire food webs and chains can collap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lnSpc>
                <a:spcPct val="6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t endangers the fish population which means our food supply is at risk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lnSpc>
                <a:spcPct val="6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457200" y="3475080"/>
            <a:ext cx="853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89ca3"/>
                </a:solidFill>
                <a:latin typeface="Calibri"/>
              </a:rPr>
              <a:t>Why does this keep happening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457200" y="4800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ecause of the high demand for fish, people are willing to pay a lot of money, so fishermen will do anything for their many customers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5:41:44Z</dcterms:created>
  <dc:creator>PA Department of Education Classrooms for the Future</dc:creator>
  <dc:description/>
  <dc:language>en-US</dc:language>
  <cp:lastModifiedBy>dhakim</cp:lastModifiedBy>
  <dcterms:modified xsi:type="dcterms:W3CDTF">2012-03-30T13:31:35Z</dcterms:modified>
  <cp:revision>59</cp:revision>
  <dc:subject/>
  <dc:title>overfishing</dc:title>
</cp:coreProperties>
</file>